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D15-2542-464F-A1E0-20B5F847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455-4D5D-42B5-AF73-408C9B9C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9BB-7BCB-4973-A123-A47785A6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FA7-2946-4A3B-98AB-249EF4EE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12BA-2264-49E6-BDC6-F0E77C85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8EAD-FFAC-4CD6-83AD-77BDE8D5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EE86-6AF6-4C88-9185-0BAC5A5B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7C5D-2178-40EC-93C6-FB104DB9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8CEE-4F9A-498A-9579-80CDDC6C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F8EC-025C-480A-9EC2-70468DB5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6077-EE8A-45E5-A6D2-A46975F8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94D-7600-4A71-9D0E-514996C1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55F8-7F53-4C19-91A7-44D574F8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CD36-BED6-473F-9366-45A8363D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11C2-D73D-4E89-8819-0CB18C8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84C1-A5F9-47D9-9306-8DAECE34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C4C5-7228-4F91-9439-85F10156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1D60-945C-427A-801E-7C8E4E7F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7A7D-59BA-4DD8-A28F-2BA2D971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73817-78A7-4D6E-8D4A-0324BA19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E0137-4941-4025-8A5D-6F586DBA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512FA-DDB4-4118-9674-1C597B7C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610-F891-41A6-BB7C-F9D7B954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E04A-D20E-4D51-AE74-1DCC17AD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80CE3-8858-4B79-B83C-47533CF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6B61-90A4-4D7C-9AFE-C8EE394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43AB-7D40-4748-A96E-45271264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F3BC-901D-474C-9BB7-58B9CECC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F3E12-7214-4ADD-AD9E-9AB62E5A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D376-D306-4CFB-A130-0D6100C6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6AC7-D4DD-4F2E-8585-555807B2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F1D89-9767-4441-BB8A-785CC3E3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7A80C-37FD-4471-A0BD-6B874E16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843-F731-4334-BB62-5ACD26F4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3308-F0E1-4DBD-A7F0-18EFBFCD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5B38-5AA8-474C-ABC3-EF7E148E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5DE2-8105-4A45-B1FB-3F829BF1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AC330-575A-4887-8EC3-03B4AF6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2AD6-54D8-4E2F-8824-0A9023B4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85DBB-EEB7-4496-820C-FCF9106C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34582-E83D-4D5A-9721-4DF9826E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3A474-9386-4DAB-BA30-500BF723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382F1-8598-4DB4-9745-24E80C6D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C632-5FD4-4EAE-AE4B-E6F7466F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EB1-6627-48DB-99A6-54479606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D7A0A-3D9B-4DB8-A2F1-B770029A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054D-AA7E-485C-B4F4-42CF6FB7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8869B-6F66-414D-852C-3FB8A2DA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22841-04BA-433B-9D5D-9C6F71EF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83C7-00E1-414D-8815-5592D689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7A01D-8340-438A-B430-5629F7C1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4A1C7-1559-4AC6-9927-DA44895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DB27-E8CE-4B9E-915C-D0FBDBA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8416B-1CDB-44F7-B98F-DE3597C5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EDEB0-612E-4CB9-9A7F-469907F3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8C2-C922-4796-B1FD-42CC4E9C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C272D-61FF-4F94-988C-5678B91D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C5093-CF0C-46F8-94F9-A2E46E90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C3532-E015-4139-A8F0-F4B56598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268D5-4EF3-4F39-B841-58698C64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AF1A6-6D26-4220-B70B-B1B0D9A6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23FF8-96C8-414B-A941-3AD95529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BEA15-7295-49F0-ACA7-A7DAC4EA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04E0F-FF65-4407-9EC1-5934C1D4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4444B-DB69-4154-88F7-828EEE30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718BC-484E-4BCD-B2F4-18385995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567-808B-4DAF-A5C8-5A325396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404A5-CB9F-4EE6-B70F-E4E05580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6E68D-6B69-4344-B580-2BDCCA63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F0487-BA80-4ED8-B056-82551E04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5E3-1953-46A8-8714-6EE0D554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2FB-E9E4-4737-899B-39C7B4D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7F0C-175A-4666-8EBD-53F3B6E5B82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1B2C-A6FF-4DE0-A669-AAD9FB8FBD8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9830-BAE1-41C9-85CC-8DEF57E015F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DCC5-E474-43D8-8396-1BEC9EFA317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790B-2C65-4A08-B78D-C89E0EB7C89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9F2C-5EDB-41B6-9D72-7575F6EC1FA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0.15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= (0.154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0.5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(this means square root of 0.154, but I couldn’t show that on PPT ’07.  Thanks Microsoft…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= 0.39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+ a =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= 1 – 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1 – 0.39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0.60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th this info, the values are easy to calculat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(0.609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0.37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0 % are homozygous domin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Aa = 2(0.609)(0.392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0.47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7.7 % are carri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percentages add up to 100 (ok, 100.1, sig figs…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tten disease is a rare recessive neurodegenerative disease, affecting 3 out of every 100 000 people in North America.  Based on this knowledge, what percentage of people are carriers and could pass it onto their offspring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sw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define the dominant, normal allele a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the recessive a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occurrence is 3 out of 100 000,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0.0000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, frequency of recessive allele i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√0.00003 = 0.00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requency of the dominant allele i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1-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1-0.005 = 0.99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685800"/>
            <a:ext cx="7467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The frequency of carriers would be 2</a:t>
            </a:r>
            <a:r>
              <a:rPr b="0" i="1" lang="en-CA" sz="3000" spc="-1" strike="noStrike">
                <a:solidFill>
                  <a:srgbClr val="ffffff"/>
                </a:solidFill>
                <a:latin typeface="Arial"/>
              </a:rPr>
              <a:t>Bb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=2(0.995)(0.005) = 0.009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o, approximately 1% of the population are carriers for this dis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Example (try on your own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It is believed that approximately 4% of Canadians of South American decent are carriers for the recessive condition sickle cell anemia.  If 98% of the alleles in this population are dominant, what should the prevalence of sickle cell anemia b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llele Frequenc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irst equation looks at the percentage of alleles in a popu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+ a =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s the percentage of dominant alle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s the percentage of recessive alle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380520"/>
            <a:ext cx="7467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30 million people in Canada, so how many alleles for eye colour should there b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0 million –two for each per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38.9 million of those alleles are brown, what does that mean for the A and a valu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= 38.9/60 = 0.649 (64.9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= 21.1/60 = 0.351 (35.1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 our equation A + a = 1 holds true (0.649 + 0.351 = 1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% dominant alleles + % recessive alleles = 10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6248520" y="3657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These are the allele 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456840"/>
            <a:ext cx="7467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y in New Brunswick (population 750 000), the dominant allele frequency is 71.6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many dominant alleles should there b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.716 x 1 500 000 = 1 074 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essive allel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+ a =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= 1 – 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 1 – 0.71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 0.284 (28.4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.284 x 1 500 000 = 426 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0520" y="380520"/>
            <a:ext cx="815364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es this relate to population dynamic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ability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the dominant allele frequency is 64.9%, then we have a 64.9% chance of selecting that all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would have a (0.649)(0.649) of selecting it twice -&gt; (0.649)(0.649) = (0.649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0.42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, what is 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 may recognize it as AA -&gt; homozygous dominant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380520"/>
            <a:ext cx="8153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wo thing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random individual in Canada has a 42.1% chance of being homozygous dominant for brown ey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2.1% of individuals in Canada should be homozygous domin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holds true for homozygous re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= 0.35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(0.351)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 0.12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2.3% of individuals should be homozygous recessive (blue ey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456840"/>
            <a:ext cx="80010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about the carriers (heterozygotes?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a = (0.649)(0.351) = 0.22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ut, there are two ways to become heterozygous -&gt; your father’s allele is dominant, your mother’s recessive OR you mother’s is dominant, your father’s re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, we multiply by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Aa = 2(0.649)(0.351) = 0.45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5.6% are heterozygo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6840" y="53316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se combine into the equa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+ 2Aa + a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 1 (look familiar?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percentage of individuals that are homozygous dominant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heterozygou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homozygous recessive equals 100% -&gt; everyone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lease note that you’ll never use this equation as a whole -&gt;you will always merely take out terms from it to do individual calcul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es it work backward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45684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you know the percentage of people that are homozygous recessive (usually the easiest thing to identify), you can make assumptions about the allele freque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15.4% of people are homozygous recessive for PTC paper tasting ability, what percentage are homozygous dominant, and what percentage are carrier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9:28:36Z</dcterms:created>
  <dc:creator>ED18</dc:creator>
  <dc:description/>
  <dc:language>en-US</dc:language>
  <cp:lastModifiedBy>ED18</cp:lastModifiedBy>
  <dcterms:modified xsi:type="dcterms:W3CDTF">2012-04-25T04:20:28Z</dcterms:modified>
  <cp:revision>4</cp:revision>
  <dc:subject/>
  <dc:title>Hardy-Weinberg</dc:title>
</cp:coreProperties>
</file>